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47A2-F51C-4A29-BF95-AB761A111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CAE8-B919-4036-96A7-055D408FC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F3D6-5D31-4C92-82F4-6E56ED183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81354-EF91-4A58-917B-79CFE4026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A7D9-2834-42BC-9937-C148A0A8B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7F84-C252-4E1C-B8F4-B0F5AC0A6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51C2-B3F4-4F11-91C3-55EB26408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BB107-421B-42BD-8FE2-8686DD4E1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184D-8252-4F70-983E-398BF692A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66CD-C6AA-448D-9CFE-07A981E42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5BEE-7972-4405-B1BF-95BB2905A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8829-776D-46ED-BE6F-5792FD762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857-DADB-4560-B43E-23444CF179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facstaff.buffalostate.edu/beaverjf/WebQuests/web-E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mmarch.com/learning/index.php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ebquest.org/index.php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ebquest.sdsu.edu/designsteps/index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ebquest.sdsu.edu/project-selection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quest.sdsu.edu/processguide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2193840" y="341280"/>
            <a:ext cx="44704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WebQu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38280" y="4800600"/>
            <a:ext cx="4610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ho, What, When, Where, How, and Why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UC 7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dy Gosw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215424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36840" y="282600"/>
            <a:ext cx="2941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2880" y="1397160"/>
            <a:ext cx="70866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facstaff.buffalostate.edu/beaverjf/WebQuests/web-ES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train.rps205.com/tift2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ebquest.org/index.ph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344080" cy="51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WebQu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evelop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Bernie Do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fessor of Educational Technology at San Diego State Universit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Lucida Grande"/>
              </a:rPr>
              <a:t>Other contribu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Lucida Grande"/>
              </a:rPr>
              <a:t>Tom March, SDSU/Pacific Bell Fello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tommarch.com/learning/index.ph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Educational Technology Staff at San Diego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articipants from Teach the Teachers Consort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2362320" cy="2166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4430880"/>
            <a:ext cx="1904760" cy="163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419720" cy="3241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75800" y="304920"/>
            <a:ext cx="3690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at is a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ebQuest?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495680"/>
            <a:ext cx="79632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ebQuests are relatively new technology based lesson plans that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ecoming increasingly popular in the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WebQuests are an excellent way to differentiate instr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 the classroom and maintain the attention of the students.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“A WebQuest is an inquiry-oriented lesson format in which most or all the information that learners work with comes from the web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Dodge, Bernie. (2007b). WebQuests. Retrieved July 5, 2008, from Department of Educational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Technology: San Diego University. Web sit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ebquest.org/index.php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228600"/>
            <a:ext cx="12077640" cy="1211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677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ebQuest Design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pi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 a design well-suited to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termine authentic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ig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lete and refine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5715000"/>
            <a:ext cx="627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dge, B. (2007). WebQuests Design Process. Retrieved July 7, 2008, from Department of Educational Technology: San Diego University Websi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ebquest.sdsu.edu/designsteps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opic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 this topic tied to the standards I should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ll this topic make good use of the W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ave you been dissatisfied with previous lessons on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ll this topic require deep understa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odge, B. (1999).  Selecting a WebQuest Project. Retrieved July 7, 2008, from Department of Educational Technology: San Diego University Web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quest.sdsu.edu/project-selection.html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reating Web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"Traditionally WebQuests have an introduction, a process, a task, a list of resources, a conclusion, and an evaluation (Spartanburg County)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ften teachers create a simulated career experience for the students to undergo during the Web Quest, such as, “You are an astronaut planning a trip to the moon.” (Concept to Classroom, 2004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udent and Teacher Process Gu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ing together:  Brainstorm, Agree on Topic, 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uides for evaluating websites, primary sources, and phot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echniques for successful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ips on persuasiv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Dowell, D. (1999). Process Guides. Retrieved July 7, 2008, from Department of Educational Technology: San Diego University Websit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quest.sdsu.edu/processguide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568520"/>
            <a:ext cx="1676520" cy="144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63836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5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dvantages to using WebQuests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major benefits of Web Quests are: “Tomorrow's workers will need to be able to work in teams. Individuals will move through several careers in the course of a lifetime. The issues facing citizens will become more and more complex, and societal problems will resist easy fixes or black-and-white categorization, The amount of information available to everyone will grow at an accelerating pace; much of it will come directly from a growing number of sources without filtering or verification. (Concept to Classroom, 2004)” The use of Web Quests teaches students how to become lifelong independent learner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 crew</dc:creator>
  <dc:description/>
  <dc:language>en-US</dc:language>
  <cp:lastModifiedBy/>
  <cp:revision>0</cp:revision>
  <dc:subject/>
  <dc:title>Slide 1</dc:title>
</cp:coreProperties>
</file>